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0641-0DE6-4C5D-929C-BCEA3323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78CD-44BE-41BB-A132-A5BFB6A0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9546-0B0B-4925-A3C3-63F5777EC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280-94B5-49D5-984A-68231FFA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720C-10BB-4765-AC98-68090171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E4FB-25D1-4D32-9F3C-7B1C00CE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81D2-46B0-4569-86A3-60645E44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C028-F538-4FB5-BA0F-DCF18DC0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3A7E-E132-47AD-9ABE-107E88AF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144B-E5E1-4B8E-8428-464365FB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C070-76DE-4C39-88A9-D7E9F39F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97E1-0A3A-475F-B974-08524A95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8AF3-8084-44AA-A2C7-3FB6CA7E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C051-669B-4F08-9D50-D09716A9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415C-B954-4C63-9AEA-73CB64FC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E05A-D053-4EC6-86CD-3F8A2C19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252A-6A53-4F39-97E5-1DEDD488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EF6F-1346-47D1-9DDF-F89AB058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86E7-08A3-409B-8C50-D56DF219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1030-734F-4594-9D84-9C7F9219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6078-309D-4EA6-BB07-84D3A9AC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EE4B-752C-46AF-B039-C618D73E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B0D3-99BB-4009-941F-860C892A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6314-CF08-48B3-8675-9E3ECD66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1A59-BF16-4A61-A023-CC4CCCE7794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8250-BD12-442B-989D-4901A0A8BA07}" type="slidenum">
              <a:rPr b="0" lang="en-US" sz="1400" spc="-1" strike="noStrike">
                <a:solidFill>
                  <a:srgbClr val="1c1c1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ing Toolbar Review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91404" r="46299" b="5258"/>
          <a:stretch/>
        </p:blipFill>
        <p:spPr>
          <a:xfrm>
            <a:off x="457200" y="3886200"/>
            <a:ext cx="830592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3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Changes colors of lines and borders of shape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Line Col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36503" t="91448" r="60253" b="5914"/>
          <a:stretch/>
        </p:blipFill>
        <p:spPr>
          <a:xfrm>
            <a:off x="1600200" y="4648320"/>
            <a:ext cx="976320" cy="731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228600" y="5943600"/>
            <a:ext cx="822636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66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Lines, connectors, basic shapes, block arrows, flowchart, stars &amp; banners, callouts, more autoshape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AutoShap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6417" t="91448" r="87087" b="6181"/>
          <a:stretch/>
        </p:blipFill>
        <p:spPr>
          <a:xfrm>
            <a:off x="1600200" y="4876920"/>
            <a:ext cx="1128600" cy="846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457200" y="6323040"/>
            <a:ext cx="822636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Change the thickness of line and borders of shape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Line Sty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42388" t="91448" r="55266" b="6247"/>
          <a:stretch/>
        </p:blipFill>
        <p:spPr>
          <a:xfrm>
            <a:off x="1600200" y="4038480"/>
            <a:ext cx="976320" cy="731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380880" y="5943600"/>
            <a:ext cx="822672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Brings up Clip Art Gallery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Insert Clip A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8999" t="91448" r="68835" b="5914"/>
          <a:stretch/>
        </p:blipFill>
        <p:spPr>
          <a:xfrm>
            <a:off x="1676520" y="4114800"/>
            <a:ext cx="747720" cy="5605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533520" y="5943600"/>
            <a:ext cx="822636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Changes 3-D style of object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3-D Sty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50502" t="91448" r="46335" b="5914"/>
          <a:stretch/>
        </p:blipFill>
        <p:spPr>
          <a:xfrm>
            <a:off x="1600200" y="4114800"/>
            <a:ext cx="1128600" cy="846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304920" y="6095880"/>
            <a:ext cx="822636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284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Draw a straight line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L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13360" t="91448" r="85003" b="6094"/>
          <a:stretch/>
        </p:blipFill>
        <p:spPr>
          <a:xfrm>
            <a:off x="1600200" y="4038480"/>
            <a:ext cx="1204920" cy="903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152280" y="6172200"/>
            <a:ext cx="822672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Changes color of font (typing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Font Col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39751" t="91448" r="57602" b="5914"/>
          <a:stretch/>
        </p:blipFill>
        <p:spPr>
          <a:xfrm>
            <a:off x="1752480" y="358128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304920" y="6095880"/>
            <a:ext cx="822636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284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Order, nudge, align, rotate, flip, text wrapping, etc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Dra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91448" r="95669" b="6334"/>
          <a:stretch/>
        </p:blipFill>
        <p:spPr>
          <a:xfrm>
            <a:off x="1600200" y="441972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228600" y="6256440"/>
            <a:ext cx="822636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8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Inserts a picture/image from file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Insert Pi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31168" t="91448" r="66670" b="5914"/>
          <a:stretch/>
        </p:blipFill>
        <p:spPr>
          <a:xfrm>
            <a:off x="1676520" y="3962520"/>
            <a:ext cx="900000" cy="674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304920" y="5867280"/>
            <a:ext cx="822636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8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Changes arrow style on lines and arrow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Arrow Sty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46490" t="91448" r="51667" b="6247"/>
          <a:stretch/>
        </p:blipFill>
        <p:spPr>
          <a:xfrm>
            <a:off x="1676520" y="4114800"/>
            <a:ext cx="976320" cy="7318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304920" y="6019920"/>
            <a:ext cx="822636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13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Draw an arrow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Arr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5085" t="91448" r="82838" b="5914"/>
          <a:stretch/>
        </p:blipFill>
        <p:spPr>
          <a:xfrm>
            <a:off x="1676520" y="3962520"/>
            <a:ext cx="1128600" cy="846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380880" y="6248520"/>
            <a:ext cx="822672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Key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284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key do you use with the rectangle and oval tool to receive squares and circl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if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Number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513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many different arrow styles are available for us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47053" t="78247" r="45091" b="15308"/>
          <a:stretch/>
        </p:blipFill>
        <p:spPr>
          <a:xfrm>
            <a:off x="1447920" y="4572000"/>
            <a:ext cx="9903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Selecting a Group of Objects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6513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ou want to select several objects all at once in order to move them, how would you do th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your Ctrl key to select all the object and use your arrow keys (or mouse) to move the group of obj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You can use your mouse to box all objects and they will become selected to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457200"/>
            <a:ext cx="38124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34320" y="457200"/>
            <a:ext cx="45720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96080" y="38088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Draws ovals &amp; circle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Ov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19334" t="91448" r="78740" b="6247"/>
          <a:stretch/>
        </p:blipFill>
        <p:spPr>
          <a:xfrm>
            <a:off x="1600200" y="3962520"/>
            <a:ext cx="1281240" cy="960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304920" y="6172200"/>
            <a:ext cx="822636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Change dash style of line and borders of shape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Dash Sty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44242" t="91448" r="53350" b="6247"/>
          <a:stretch/>
        </p:blipFill>
        <p:spPr>
          <a:xfrm>
            <a:off x="1676520" y="4419720"/>
            <a:ext cx="976320" cy="731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304920" y="6248520"/>
            <a:ext cx="822636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Draw rectangles &amp; square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Rect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17165" t="91448" r="80669" b="5888"/>
          <a:stretch/>
        </p:blipFill>
        <p:spPr>
          <a:xfrm>
            <a:off x="1676520" y="3505320"/>
            <a:ext cx="1280880" cy="960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228600" y="6095880"/>
            <a:ext cx="822636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Creates a textbox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Text Bo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21499" t="91448" r="76896" b="5914"/>
          <a:stretch/>
        </p:blipFill>
        <p:spPr>
          <a:xfrm>
            <a:off x="1676520" y="3962520"/>
            <a:ext cx="1052280" cy="788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380880" y="5943600"/>
            <a:ext cx="822672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66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Creates a WordArt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Word A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25312" t="91448" r="73169" b="6247"/>
          <a:stretch/>
        </p:blipFill>
        <p:spPr>
          <a:xfrm>
            <a:off x="1676520" y="4038480"/>
            <a:ext cx="823680" cy="61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380880" y="6095880"/>
            <a:ext cx="822672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Changes shadow on text and objects; can also open shadow setting toolbar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Shadow Sty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48337" t="91448" r="49501" b="6150"/>
          <a:stretch/>
        </p:blipFill>
        <p:spPr>
          <a:xfrm>
            <a:off x="1676520" y="441972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380880" y="6172200"/>
            <a:ext cx="822672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Fills color of a shape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Fill Col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33333" t="91448" r="63501" b="5914"/>
          <a:stretch/>
        </p:blipFill>
        <p:spPr>
          <a:xfrm>
            <a:off x="1600200" y="4038480"/>
            <a:ext cx="900000" cy="674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304920" y="5943600"/>
            <a:ext cx="822636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4:14:28Z</dcterms:created>
  <dc:creator>wiesel</dc:creator>
  <dc:description/>
  <dc:language>en-US</dc:language>
  <cp:lastModifiedBy>wiesel</cp:lastModifiedBy>
  <dcterms:modified xsi:type="dcterms:W3CDTF">2010-12-02T16:33:10Z</dcterms:modified>
  <cp:revision>8</cp:revision>
  <dc:subject/>
  <dc:title>Slide 1</dc:title>
</cp:coreProperties>
</file>